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603B-5D0F-4907-ADBA-1664CFEE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BB64-0EF6-41E3-A166-8BBBC367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3CD36-E575-49FF-A602-B35438CF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88A0-E1EE-4B37-8535-CF6E9757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5AC0-5B26-473A-991B-29D2B3CF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02CA5-1465-4AA3-B617-06804F77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D171-4E10-444F-A111-9F63D0F8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F5F5-9AD2-4A3A-8215-135AB357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3D0A-2147-452D-BDC7-2AFDB34B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E5E2-B2FD-4A96-8E37-1180F3B1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DC7B-E56B-4440-8849-BBB5BE7D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8F8B-3BB5-459C-BADA-33E7252E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20960" y="6438600"/>
            <a:ext cx="3911760" cy="2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AC1F-CD27-4BD0-9255-4EBA85B3B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0,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880" y="1915920"/>
            <a:ext cx="7772400" cy="1143000"/>
          </a:xfrm>
          <a:prstGeom prst="rect">
            <a:avLst/>
          </a:prstGeom>
          <a:solidFill>
            <a:srgbClr val="ffdb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Stage 4: Buying a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of Thumb: A common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he fair market value of the company’s assets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he owner’s cost of current inventory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approx. 90% of what appear to be good accounts receivable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a percentage of the company’s net income before taxes as goodwill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pproximate Value of th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fed8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of Thumb: Som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k Store – 15% of annual sales +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ycare Centre – 2-3 times annual cas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ntal Practice – 60-70% of annual rev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rist Shop – 34% of annual sales plus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taurant (non-franchised) – 30-45% of annual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vel Agency – 40-60% of annual com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rown Co. Val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31504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ome before tax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ss sala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on financ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justed pretax inco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17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xes at 20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(3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justed profit after t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14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us depreci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working capital inves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(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capital expenditur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(3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adjusted free cash f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$1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 value of discounted cash f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$7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us excess machine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Value of the Brown Co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8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4533840"/>
            <a:ext cx="876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15040" y="6000840"/>
            <a:ext cx="9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6880"/>
            <a:ext cx="77724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Key Points to Consider in Buying a 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9720" y="1851120"/>
            <a:ext cx="8079120" cy="4548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34920" y="2346480"/>
            <a:ext cx="698688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ake your time and verify the information you are given before you commit your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n’t fall in love with the business before you do your ho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 careful not to pay too much for goodw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y a business within an industry you know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y based on the return on investment, not the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n’t use all your cash for the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vestigate before you b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ystems View of Family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1504800"/>
            <a:ext cx="3543480" cy="3048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2952720"/>
            <a:ext cx="3448080" cy="304812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71760" y="3009960"/>
            <a:ext cx="3448080" cy="30481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4552920"/>
            <a:ext cx="1467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04840" y="4591080"/>
            <a:ext cx="1409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1924200"/>
            <a:ext cx="1809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85960" y="32958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38760" y="33148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53000" y="4705200"/>
            <a:ext cx="4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90800" y="394344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ces Between a Business System and a Family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1800" y="1771560"/>
            <a:ext cx="8477280" cy="4794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3960" y="2171880"/>
            <a:ext cx="36766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-base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: To product goods/services profita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y prev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nce is based o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are temporary and contr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: Based on authority and infl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91080" y="2114640"/>
            <a:ext cx="4019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1080" y="2133720"/>
            <a:ext cx="40003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L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otion-base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: To nurture offspring into competent ad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lity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nce is uncondi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are 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: Based on generational stage/birth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Can You Prepare for Running the Family Busine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2600" y="2190600"/>
            <a:ext cx="7810200" cy="4419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95320" y="2438280"/>
            <a:ext cx="7201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others of your interest in being involved in the family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responsibility for your perso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experience outside the family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relationships with individuals who are part of the business’s curren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family f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44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ying a 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88240" y="2882880"/>
            <a:ext cx="6480" cy="138276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5808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8440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100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03600" y="2070000"/>
            <a:ext cx="0" cy="358164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889360" y="1682640"/>
            <a:ext cx="3238560" cy="585720"/>
            <a:chOff x="2889360" y="1682640"/>
            <a:chExt cx="3238560" cy="585720"/>
          </a:xfrm>
        </p:grpSpPr>
        <p:sp>
          <p:nvSpPr>
            <p:cNvPr id="49" name=""/>
            <p:cNvSpPr/>
            <p:nvPr/>
          </p:nvSpPr>
          <p:spPr>
            <a:xfrm>
              <a:off x="2889360" y="1682640"/>
              <a:ext cx="3238560" cy="3812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38360" y="1749600"/>
              <a:ext cx="21416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y an existing busi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875320" y="2330280"/>
            <a:ext cx="3266640" cy="381240"/>
            <a:chOff x="2875320" y="2330280"/>
            <a:chExt cx="3266640" cy="381240"/>
          </a:xfrm>
        </p:grpSpPr>
        <p:sp>
          <p:nvSpPr>
            <p:cNvPr id="52" name=""/>
            <p:cNvSpPr/>
            <p:nvPr/>
          </p:nvSpPr>
          <p:spPr>
            <a:xfrm>
              <a:off x="2889360" y="2330280"/>
              <a:ext cx="3238560" cy="3812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75320" y="2403360"/>
              <a:ext cx="3266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re can you find a business to buy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412720" y="4400640"/>
            <a:ext cx="4193280" cy="406440"/>
            <a:chOff x="2412720" y="4400640"/>
            <a:chExt cx="4193280" cy="406440"/>
          </a:xfrm>
        </p:grpSpPr>
        <p:sp>
          <p:nvSpPr>
            <p:cNvPr id="55" name=""/>
            <p:cNvSpPr/>
            <p:nvPr/>
          </p:nvSpPr>
          <p:spPr>
            <a:xfrm>
              <a:off x="2425680" y="4400640"/>
              <a:ext cx="4165560" cy="4064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12720" y="4491000"/>
              <a:ext cx="4193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luate all the aspects of the potential acqui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425680" y="5035680"/>
            <a:ext cx="4165560" cy="393480"/>
            <a:chOff x="2425680" y="5035680"/>
            <a:chExt cx="4165560" cy="393480"/>
          </a:xfrm>
        </p:grpSpPr>
        <p:sp>
          <p:nvSpPr>
            <p:cNvPr id="58" name=""/>
            <p:cNvSpPr/>
            <p:nvPr/>
          </p:nvSpPr>
          <p:spPr>
            <a:xfrm>
              <a:off x="2425680" y="5035680"/>
              <a:ext cx="4165560" cy="39348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86360" y="5102280"/>
              <a:ext cx="264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termine an appropriate pr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68240" y="3086280"/>
            <a:ext cx="7480440" cy="952200"/>
            <a:chOff x="768240" y="3086280"/>
            <a:chExt cx="7480440" cy="952200"/>
          </a:xfrm>
        </p:grpSpPr>
        <p:grpSp>
          <p:nvGrpSpPr>
            <p:cNvPr id="61" name=""/>
            <p:cNvGrpSpPr/>
            <p:nvPr/>
          </p:nvGrpSpPr>
          <p:grpSpPr>
            <a:xfrm>
              <a:off x="3841920" y="3086280"/>
              <a:ext cx="1257120" cy="952200"/>
              <a:chOff x="3841920" y="3086280"/>
              <a:chExt cx="1257120" cy="952200"/>
            </a:xfrm>
          </p:grpSpPr>
          <p:sp>
            <p:nvSpPr>
              <p:cNvPr id="62" name=""/>
              <p:cNvSpPr/>
              <p:nvPr/>
            </p:nvSpPr>
            <p:spPr>
              <a:xfrm>
                <a:off x="384192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07080" y="3090960"/>
                <a:ext cx="11282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rokers a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al estat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ge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768240" y="3086280"/>
              <a:ext cx="1257480" cy="952200"/>
              <a:chOff x="768240" y="3086280"/>
              <a:chExt cx="1257480" cy="952200"/>
            </a:xfrm>
          </p:grpSpPr>
          <p:sp>
            <p:nvSpPr>
              <p:cNvPr id="65" name=""/>
              <p:cNvSpPr/>
              <p:nvPr/>
            </p:nvSpPr>
            <p:spPr>
              <a:xfrm>
                <a:off x="768240" y="3086280"/>
                <a:ext cx="125748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971640" y="3197160"/>
                <a:ext cx="85248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urr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o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t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2343240" y="3086280"/>
              <a:ext cx="1257120" cy="952200"/>
              <a:chOff x="2343240" y="3086280"/>
              <a:chExt cx="1257120" cy="952200"/>
            </a:xfrm>
          </p:grpSpPr>
          <p:sp>
            <p:nvSpPr>
              <p:cNvPr id="68" name=""/>
              <p:cNvSpPr/>
              <p:nvPr/>
            </p:nvSpPr>
            <p:spPr>
              <a:xfrm>
                <a:off x="234324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387160" y="3090960"/>
                <a:ext cx="11696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oc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wspape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 tra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ssoci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427720" y="3086280"/>
              <a:ext cx="1257120" cy="952200"/>
              <a:chOff x="5427720" y="3086280"/>
              <a:chExt cx="1257120" cy="952200"/>
            </a:xfrm>
          </p:grpSpPr>
          <p:sp>
            <p:nvSpPr>
              <p:cNvPr id="71" name=""/>
              <p:cNvSpPr/>
              <p:nvPr/>
            </p:nvSpPr>
            <p:spPr>
              <a:xfrm>
                <a:off x="542772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37440" y="3090960"/>
                <a:ext cx="12380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awyers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counta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 oth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fessional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6991200" y="3086280"/>
              <a:ext cx="1257480" cy="952200"/>
              <a:chOff x="6991200" y="3086280"/>
              <a:chExt cx="1257480" cy="952200"/>
            </a:xfrm>
          </p:grpSpPr>
          <p:sp>
            <p:nvSpPr>
              <p:cNvPr id="74" name=""/>
              <p:cNvSpPr/>
              <p:nvPr/>
            </p:nvSpPr>
            <p:spPr>
              <a:xfrm>
                <a:off x="6991200" y="3086280"/>
                <a:ext cx="125748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185600" y="3197160"/>
                <a:ext cx="869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You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2676600" y="5867280"/>
            <a:ext cx="3663360" cy="622440"/>
            <a:chOff x="2676600" y="5867280"/>
            <a:chExt cx="3663360" cy="622440"/>
          </a:xfrm>
        </p:grpSpPr>
        <p:grpSp>
          <p:nvGrpSpPr>
            <p:cNvPr id="77" name=""/>
            <p:cNvGrpSpPr/>
            <p:nvPr/>
          </p:nvGrpSpPr>
          <p:grpSpPr>
            <a:xfrm>
              <a:off x="2676600" y="5867280"/>
              <a:ext cx="1508040" cy="622440"/>
              <a:chOff x="2676600" y="5867280"/>
              <a:chExt cx="1508040" cy="622440"/>
            </a:xfrm>
          </p:grpSpPr>
          <p:sp>
            <p:nvSpPr>
              <p:cNvPr id="78" name=""/>
              <p:cNvSpPr/>
              <p:nvPr/>
            </p:nvSpPr>
            <p:spPr>
              <a:xfrm>
                <a:off x="2712960" y="5867280"/>
                <a:ext cx="1435320" cy="62244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676600" y="5919840"/>
                <a:ext cx="15080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urchase asse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4813920" y="5867280"/>
              <a:ext cx="1526040" cy="622440"/>
              <a:chOff x="4813920" y="5867280"/>
              <a:chExt cx="1526040" cy="622440"/>
            </a:xfrm>
          </p:grpSpPr>
          <p:sp>
            <p:nvSpPr>
              <p:cNvPr id="81" name=""/>
              <p:cNvSpPr/>
              <p:nvPr/>
            </p:nvSpPr>
            <p:spPr>
              <a:xfrm>
                <a:off x="4859280" y="5867280"/>
                <a:ext cx="1435320" cy="62244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813920" y="5919840"/>
                <a:ext cx="15260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urchase sha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>
            <a:off x="1244520" y="2860560"/>
            <a:ext cx="6545520" cy="18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63600" y="4267080"/>
            <a:ext cx="6512040" cy="972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2520" y="5664240"/>
            <a:ext cx="2171880" cy="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240920" y="2870280"/>
            <a:ext cx="3240" cy="28260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3240" y="2111400"/>
            <a:ext cx="180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787880" y="2887560"/>
            <a:ext cx="1800" cy="23040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054840" y="2887560"/>
            <a:ext cx="144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503240" y="2884320"/>
            <a:ext cx="1800" cy="2368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982960" y="2870280"/>
            <a:ext cx="1440" cy="2602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11360" y="5672160"/>
            <a:ext cx="17640" cy="2458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608800" y="5657760"/>
            <a:ext cx="144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05400" y="4168800"/>
            <a:ext cx="3240" cy="2761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503240" y="4851360"/>
            <a:ext cx="180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Buying an Established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1200" y="2171880"/>
            <a:ext cx="7962840" cy="4362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495520"/>
            <a:ext cx="7334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duce th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likelihood of a successful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proven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ready has a product o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lready developed a clien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relations have already been 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equipment is already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often be acquired at a good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dvantages of Buying an Established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6720" y="2171880"/>
            <a:ext cx="7924680" cy="4362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09800" y="2362320"/>
            <a:ext cx="7143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facilities may be old and obso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/management relations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personnel may be unprodu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 may contain a large amount of “dead” 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have poor quality accounts receiv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condition and relations with financial institutions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inherit any ill will that may ex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have less freedom to define the nature of the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Where to Find a Busines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8760" y="2028960"/>
            <a:ext cx="7056720" cy="4559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 In your present business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 From direct, independent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3. Through business brokers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ther middl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4. Through confidential advi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5. From other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00160" y="1682640"/>
            <a:ext cx="5410440" cy="3936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io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2000" y="1879200"/>
            <a:ext cx="4292640" cy="36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ck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bt to Net Worth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ss Profit to Sales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 Profit to Sales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es to Inventory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 Collection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10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6040" y="29340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a Simplified Balance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185840" y="907920"/>
            <a:ext cx="6946920" cy="5613480"/>
            <a:chOff x="1185840" y="907920"/>
            <a:chExt cx="6946920" cy="5613480"/>
          </a:xfrm>
        </p:grpSpPr>
        <p:grpSp>
          <p:nvGrpSpPr>
            <p:cNvPr id="109" name=""/>
            <p:cNvGrpSpPr/>
            <p:nvPr/>
          </p:nvGrpSpPr>
          <p:grpSpPr>
            <a:xfrm>
              <a:off x="1185840" y="907920"/>
              <a:ext cx="6946920" cy="5613480"/>
              <a:chOff x="1185840" y="907920"/>
              <a:chExt cx="6946920" cy="5613480"/>
            </a:xfrm>
          </p:grpSpPr>
          <p:sp>
            <p:nvSpPr>
              <p:cNvPr id="110" name=""/>
              <p:cNvSpPr/>
              <p:nvPr/>
            </p:nvSpPr>
            <p:spPr>
              <a:xfrm>
                <a:off x="1185840" y="907920"/>
                <a:ext cx="6946920" cy="5613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81360" y="936720"/>
                <a:ext cx="41641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HE CAMPBELL CO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ALANCE SHEET AS OF DEC. 31, 200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88600" y="1471680"/>
                <a:ext cx="6585840" cy="501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SSET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000s)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urrent Ass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counts receiv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ventor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 8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current asset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58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ixed Ass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achiner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ss: Accumulated depreciatio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25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quipment and fixtur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ss: Accumulated depreciatio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8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fixed asset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27 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tal Assets (C = A + B)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85  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IABILITIES AND OWNER’S EQ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urrent Liabilities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counts pay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6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tes pay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3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current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ong-Term Liabilit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tes payable**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$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long-term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3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WNER’S EQ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pital invest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tained earning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owner’s equit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5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tal Liabilities and Owner’s Equity (F = D + E)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85  (F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870600" y="365760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0600" y="372096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0600" y="528336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70600" y="601992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70600" y="638820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70600" y="631188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171800" y="6494400"/>
            <a:ext cx="349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ebt is due within 12 month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Debt is due after 1 yea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536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87320" y="4748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a Simplified Incom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73080" y="1204920"/>
            <a:ext cx="6997680" cy="5313240"/>
            <a:chOff x="973080" y="1204920"/>
            <a:chExt cx="6997680" cy="5313240"/>
          </a:xfrm>
        </p:grpSpPr>
        <p:sp>
          <p:nvSpPr>
            <p:cNvPr id="123" name=""/>
            <p:cNvSpPr/>
            <p:nvPr/>
          </p:nvSpPr>
          <p:spPr>
            <a:xfrm>
              <a:off x="973080" y="1204920"/>
              <a:ext cx="6997680" cy="5313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73680" y="1297080"/>
              <a:ext cx="4984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 CAMPBELL C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COME STATEMENT FOR YEAR ENDING DEC. 31, 200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0600" y="1943280"/>
              <a:ext cx="6124320" cy="44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000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ss sal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428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ss: Return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 Sal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42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st of goods sold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ginning inventor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 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us: Net purchas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2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st of goods avail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ss: Ending inventor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 of Goods Sol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9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oss Profit (C = A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B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133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ling Expens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29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ministrative expens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ice salar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 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est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preci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ther administrative expens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tal Administrative Expens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fit Before Income Tax (F = C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D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E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18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F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come Tax (G = 25% of F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 Profit (G = F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G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13.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H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37120" y="388944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37120" y="415764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37120" y="420516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37120" y="553248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37120" y="637848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37120" y="632952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0720" y="2025720"/>
            <a:ext cx="8293320" cy="31240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197080"/>
            <a:ext cx="3810240" cy="28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lance Sheet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Boo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d Boo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a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1640" y="2196720"/>
            <a:ext cx="4195800" cy="273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nings-Based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zation of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ed Future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ed Cas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8" dur="1" fill="hold"/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9" dur="1" fill="hold"/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00" dur="1" fill="hold"/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03:10:40Z</dcterms:created>
  <dc:creator>Chris Spafford</dc:creator>
  <dc:description/>
  <dc:language>en-US</dc:language>
  <cp:lastModifiedBy>lori_mclellan</cp:lastModifiedBy>
  <cp:lastPrinted>2002-04-30T04:11:37Z</cp:lastPrinted>
  <dcterms:modified xsi:type="dcterms:W3CDTF">2008-02-12T15:52:22Z</dcterms:modified>
  <cp:revision>64</cp:revision>
  <dc:subject/>
  <dc:title>Figure 1.1 The Components of Successful Entrepreneurial Ventures</dc:title>
</cp:coreProperties>
</file>